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6F0B-9451-434D-A44A-616FF7DC6B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10B0-8DB4-4406-94EC-846085EA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56A2-799E-4A23-8A82-92A3B2FF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A13A-D24A-4DD7-895F-A4785A46B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75F3-97E9-4070-AEC5-2B666DDD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5512-B631-4AB8-8E17-92A014F2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D712-061D-4C3F-AE38-3806C517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9071-D5D7-4E96-B12E-FE666BF5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6C48-7E27-4537-8C09-0A15B4C1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E963-33D4-49D4-AE8D-B9A2BCA7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17FB9-27FB-4FA6-8099-A1655A6C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7AD8-578B-4C80-9B98-F0D4FB8A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5E7A47-1CC3-424A-A8AE-BE6D0C3FFA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shistory.org/tour/first-bank.htm" TargetMode="External"/><Relationship Id="rId2" Type="http://schemas.openxmlformats.org/officeDocument/2006/relationships/hyperlink" Target="http://davidavery.files.wordpress.com/2009/02/thomas-jefferson-picture.jpg" TargetMode="External"/><Relationship Id="rId3" Type="http://schemas.openxmlformats.org/officeDocument/2006/relationships/hyperlink" Target="http://wigwags.files.wordpress.com/2009/02/ahamilton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76440" y="1600200"/>
            <a:ext cx="2391120" cy="215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Washington’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imately Washington agreed with Hamilton and the first national bank was chartered for 20 yea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pirited entrepreneurs took advantage of the loans from the bank and America’s economy grew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Do you agre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s a national bank necessary for the U.S. at the ti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believe Jefferson or Hamilton was correct in interpreting the Constitution with respect to the ban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generally think Congress has too much power or not enough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swordfoxdesign.co.nz/library/branding/1791-diamond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archives.gov/historical-docs/document.html?doc=3&amp;title.raw=Constitution%20of%20the%20United%20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//mises.org/images4/12penceMas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people.cohums.ohio-state.edu/childs1/387%20Syllabus%20Wi%2009_files/image00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ushistory.org/tour/first-bank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davidavery.files.wordpress.com/2009/02/thomas-jefferson-picture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://wigwags.files.wordpress.com/2009/02/ahamil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blogs.geniocity.com/friedman/wp-content/uploads/2010/02/George-Washing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982080" cy="1207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The U.S. Constitution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Article I Section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Enumerated Powers: Those powers given to U.S. government expressly listed in the Constitu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General Powers: Those powers given to the U.S. government to serve the general welfare of the people.  These powers are not specifi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General Welfare Clause: Allows Congress to enact laws that it sees fit to support the common g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Necessary and Proper Clause: Allows Congress to enact laws that are necessary to carry out its enumerated pow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4363920"/>
            <a:ext cx="2743200" cy="249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in 179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ary War Debt – Many states owed money after the Revolutionary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urrency – Before and during the Revolutionary War each state had its own system of currency. There was no uniformity in Amer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new country America needed to develop its economy.  Should America focus on agriculture, which it had in the past, or should it develop its trade and manufactur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4952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95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der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29528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ublica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81080"/>
            <a:ext cx="4040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ander Hamil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federal gover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the states’ debt should be absorbed by the national government, and it will pay off the deb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the states are now one country there should be one currency, and it should be paper.  It makes life easier since gold and silver are hard to come b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cessary and proper” means whatever the government needs to do to solve probl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powers are not prohibited in the government, but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ied pow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05120"/>
            <a:ext cx="404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, local gover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all the states have the same amount of debt and it is unfair to have states will little debt pay other state’s deb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don’t trust that paper can be valuable and used instead of gold and sil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cessary and proper” means only whatever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bsolute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ecessa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opperplate Gothic Bold"/>
              </a:rPr>
              <a:t>The first 2 parties Devel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Some people thought that a bank would help in solving the problems in 1791.  Based on your knowledge of the Constitution, does Congress have the right to create this bank? Why or why no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5575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15240" cy="624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62485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Jeffer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fferson did not see the need for the ban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also worried that if Congress created a bank, then they were abusing power and would do so in the fu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Hamil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 bank would aid the government in paying off the debt, coining money, and collecting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charter a bank is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ied 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The Constitution does not prohibit its creation and it would help Congress carry out its du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nk will also allow people to borrow money to start businesses which helps the econo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46880" y="3657600"/>
            <a:ext cx="268272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1:55:39Z</dcterms:created>
  <dc:creator>wilson</dc:creator>
  <dc:description/>
  <dc:language>en-US</dc:language>
  <cp:lastModifiedBy>Karina Gaige</cp:lastModifiedBy>
  <dcterms:modified xsi:type="dcterms:W3CDTF">2010-06-11T14:51:25Z</dcterms:modified>
  <cp:revision>6</cp:revision>
  <dc:subject/>
  <dc:title>The National Bank Debate</dc:title>
</cp:coreProperties>
</file>